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D9C-4C68-4082-BC2F-2D6DFE21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7E2-96E7-4FBC-852F-476D3291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DCA-3655-4F1F-A668-B2B4CF6E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192-37E2-4AC9-B8AA-99881E5A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EDB-0776-4B30-B29F-4C169985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8BCC-DC04-46CC-B2E8-48222134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363-E830-4967-8FE4-39964F4D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933-8718-49AD-9617-1ACDC071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034-CFEF-4C1E-A2D1-E7D4B4DB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ADB3-A426-4210-82C5-679061EA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239-7E56-4319-AAC0-CA75B5A2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2AB9-3D98-465E-ACFF-B9543241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584A-A784-42CC-BF16-CE442094F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788000" y="189000"/>
            <a:ext cx="4356000" cy="74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  </a:t>
            </a: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23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, работи прилежно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ързай, доде трепти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щ слънчев лъч тъй нежно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горе в висоти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одето слънце грее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ързай ти в пътя си;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ей, веч нощта тъмнее -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ързай, рабо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427640" y="333360"/>
            <a:ext cx="4716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, работи прилежно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ъв силний слънчев пек;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след делото успешно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чакай отдих лек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Нек' таз минута златна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да мине в подвиг свят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 труд, с вяра непоклатна дните да лет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48360" y="158760"/>
            <a:ext cx="392436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, работи прилежно,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денят ощ' дор светлей; докат' небе безбрежно              още руменей!                          Бързай преди лъч сетен               се скрий зад планини,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изчезне кат' последен                  в нощни тъмнини!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3:36:21Z</dcterms:created>
  <dc:creator>TrifonTrifonow</dc:creator>
  <dc:description/>
  <dc:language>en-US</dc:language>
  <cp:lastModifiedBy>TrifonTrifonow</cp:lastModifiedBy>
  <dcterms:modified xsi:type="dcterms:W3CDTF">2005-12-01T20:41:27Z</dcterms:modified>
  <cp:revision>8</cp:revision>
  <dc:subject/>
  <dc:title>Slide 1</dc:title>
</cp:coreProperties>
</file>